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8A83-EC5A-44D7-BF9E-6DEF4409C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1CFA-369B-4115-A02D-F4FC110BE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CF04-0256-4E83-9841-24BEC8917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E790-D4BF-42A8-8851-6AF130608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4DD6-5176-48D3-98C0-DFB75555A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10F6-BFCD-450A-8DE9-3BE27FB53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2237-FD69-4094-BBF6-74BDD05F3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B27B-6968-43AB-8125-4E1F7B33C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DDD9-8183-4F0C-8A76-70108B46B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DD3B-A282-4A4B-879D-05BB16716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1A2C-928C-481C-8313-E33C6CEC3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DDA1-F73E-4222-9E35-368BD7CA2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4A843-B0ED-406F-8245-52A2E8FC18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esson 1.1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ing Estimation Strateg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0240" y="1712880"/>
            <a:ext cx="37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 1: Estimating by rou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89154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19600" y="493560"/>
            <a:ext cx="667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 2: Using front-end estimation and compatible 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8305920" cy="10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87631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8991720" cy="34257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62120" y="1981080"/>
            <a:ext cx="4952880" cy="1905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ur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7315200" cy="2602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038480" y="3962520"/>
            <a:ext cx="403884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30T23:21:45Z</dcterms:created>
  <dc:creator>Graham</dc:creator>
  <dc:description/>
  <dc:language>en-US</dc:language>
  <cp:lastModifiedBy>Graham</cp:lastModifiedBy>
  <dcterms:modified xsi:type="dcterms:W3CDTF">2011-08-30T23:36:48Z</dcterms:modified>
  <cp:revision>3</cp:revision>
  <dc:subject/>
  <dc:title>Using Estimation Strategies</dc:title>
</cp:coreProperties>
</file>